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011-F99C-47A1-96B4-8F5D91EE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857-A997-471A-898F-3A89E981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F33-1728-4CA4-AA3B-A29B9605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6F5-C179-4EE4-B96C-AA85394E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AE191-1042-441D-919C-E9924E91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6C6B8-BE91-4C4F-B553-73B07AEF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A5B1C-EA78-4C06-BCFC-1A062703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3F8C8-AA86-4B24-BC7F-9AA7C9B8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C8306-B11F-473C-B017-85439529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0E3E1-1699-4958-B8DD-78C220C9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4497C-20B8-45A2-BCAA-3E322AE9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F9E-F223-4C8F-95C1-26445F91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56E0F-9FB7-4C5C-881F-A4F9EA8F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4B37D-03F0-4AC6-A2AF-58AFD6B7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30A50-FA84-4C86-8DFD-356FFC0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B7754-7A3A-405D-8005-3977CA44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79697-7627-4D3C-AEDB-17D2A737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C58-17FC-46E2-81E1-8737C518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F66-A233-4394-8AE0-F7C6783F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6D4-FF45-4E9B-ABD0-7B4C5E2A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8E2-B74D-489C-8CA6-25C13B13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378-E790-4560-AC47-0D5E7A1D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1D1-2E24-4CEF-9964-9DE4449F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5A0-DE34-486B-A4FF-2CCEE998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50F4-A630-4AD8-9AF1-145C1B7528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2C26-4607-4B69-8D90-AAC60C39ED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95480" y="1447920"/>
            <a:ext cx="3200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388620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EVALUARE DIN PERSPECTIVA ELEVULU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PUNCTELE CARDINAL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00" y="76140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. Stabiliți punctele cardinale pe harta de mai j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e3e3ff"/>
                </a:solidFill>
                <a:latin typeface="Arial"/>
              </a:rPr>
              <a:t>ȘEZARE GEOGRAFIC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În ce emisfere se situează continentul As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re sunt principalele linii geografice care traversează continentul asiat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15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VECINII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re sunt vecini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ntinentului asiatic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87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RELIEFUL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e unități de relief sunt pe continentul Asia, având în vedere culorile existente pe hart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STATELE DIN AS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Urmăriți harta de mai jos și precizaţ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va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tate de pe continentul 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019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TURISMUL DIN AS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re din imaginile de mai jos ilustrează obiective turistice din 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590920" cy="177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rcRect l="0" t="0" r="0" b="6000"/>
          <a:stretch/>
        </p:blipFill>
        <p:spPr>
          <a:xfrm>
            <a:off x="6477120" y="990720"/>
            <a:ext cx="2492280" cy="1676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Indonezia"/>
          <p:cNvPicPr/>
          <p:nvPr/>
        </p:nvPicPr>
        <p:blipFill>
          <a:blip r:embed="rId3"/>
          <a:stretch/>
        </p:blipFill>
        <p:spPr>
          <a:xfrm>
            <a:off x="380880" y="2895480"/>
            <a:ext cx="2590920" cy="1731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Orasului Interzis,Beijing - China"/>
          <p:cNvPicPr/>
          <p:nvPr/>
        </p:nvPicPr>
        <p:blipFill>
          <a:blip r:embed="rId4"/>
          <a:stretch/>
        </p:blipFill>
        <p:spPr>
          <a:xfrm>
            <a:off x="380880" y="48006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Kyoto"/>
          <p:cNvPicPr/>
          <p:nvPr/>
        </p:nvPicPr>
        <p:blipFill>
          <a:blip r:embed="rId5"/>
          <a:stretch/>
        </p:blipFill>
        <p:spPr>
          <a:xfrm>
            <a:off x="6477120" y="2819520"/>
            <a:ext cx="2473200" cy="1752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2397240" cy="1716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505320" y="9907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3505320" y="2819520"/>
            <a:ext cx="2438280" cy="1676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962520" y="4572000"/>
            <a:ext cx="171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3e3ff"/>
                </a:solidFill>
                <a:latin typeface="Arial"/>
              </a:rPr>
              <a:t>BRAVO 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1012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45:31Z</dcterms:created>
  <dc:creator>Scoala 2</dc:creator>
  <dc:description/>
  <dc:language>en-US</dc:language>
  <cp:lastModifiedBy>Scoala 2</cp:lastModifiedBy>
  <dcterms:modified xsi:type="dcterms:W3CDTF">2011-01-13T16:02:51Z</dcterms:modified>
  <cp:revision>11</cp:revision>
  <dc:subject/>
  <dc:title>Slide 1</dc:title>
</cp:coreProperties>
</file>